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4.wmf" ContentType="image/x-wmf"/>
  <Override PartName="/ppt/media/image13.wmf" ContentType="image/x-wmf"/>
  <Override PartName="/ppt/media/image1.png" ContentType="image/png"/>
  <Override PartName="/ppt/media/image2.wmf" ContentType="image/x-wmf"/>
  <Override PartName="/ppt/media/camera.wav" ContentType="audio/x-wav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E36E-97E2-4D19-A2EB-5E16600AF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3475-95C4-4096-93AB-AA5ED67288A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B21C-C3FC-41F7-A8E2-276C0D5EC9B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823B-8758-486B-AAEB-F241701E2BD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A97B-B47A-4A2B-8FBA-3721627D937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1210-D89A-4615-85AC-1AF005B0912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CBA9-3956-4667-8A69-CDFBE5DD2EB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036B-06C7-49BD-A028-3EACE12BD10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55A5-70A0-44CD-888F-FA88105C559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4D93-BBE3-4981-B230-2500AAB59B7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134F-2835-45D0-B53C-307BD988FD2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D3A3-C9D0-4B6D-90F9-B1CBEBDA63F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029B-A177-4E91-9BC4-0FDF7C628E2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CAA-BAF8-4133-980B-02F985E9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682-9A21-47B1-84E3-B1281A20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148-505B-423B-B3C7-8B6EAFBB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0F2D-1B02-4589-A922-87C5589A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D21D-41BA-4CBE-B2A2-63F07FD7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B4E1-D7A7-4B82-99C7-7C07E893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7A94-A7AF-4450-A525-08AF562C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2B69-F68A-46C8-A753-5F71A4DF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44BB-3390-4190-8D88-D90444A7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32F3-3FB8-46E1-A839-84AF3E9C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2371-B001-4316-B329-6E66CA9F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FF4-DDBB-4FDD-9F73-5202008C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2018-0AD6-4CF3-A882-543B77E2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7EB9-C8D4-48C9-863C-6DA843A9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31ED-AD4C-4410-9ED5-1F0B0928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4D5F-91F1-4CA2-8B5B-7D6CB196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E28A-B2F4-42F4-932C-E5669BAE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E9C-5E33-446F-85F4-CFFB7B0C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B896-5B62-480B-9C84-B354896C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AE6F-087F-455C-8169-B004964B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7F0-E69F-467E-9E6D-ED7FAAEC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15A-022B-4115-AD26-4883735D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850-D75C-4D97-A3C2-A95D77A3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811-8DE4-4672-BF9A-50DB3E65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54E2-AACB-4D86-BEA9-8C3ADE54195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B88E-F343-45DE-B29D-BC290DD3265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BA10-399D-4B01-B6D4-3E12BE44129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62040" y="1782360"/>
            <a:ext cx="60199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El </a:t>
            </a:r>
            <a:r>
              <a:rPr b="0" lang="en-US" sz="5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br>
              <a:rPr sz="5400"/>
            </a:b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de los verbos</a:t>
            </a:r>
            <a:endParaRPr b="0" lang="en-US" sz="5400" spc="-1" strike="noStrike">
              <a:solidFill>
                <a:srgbClr val="ebd189"/>
              </a:solidFill>
              <a:latin typeface="Comic Sans MS"/>
            </a:endParaRPr>
          </a:p>
        </p:txBody>
      </p:sp>
      <p:pic>
        <p:nvPicPr>
          <p:cNvPr id="110" name="Picture 4" descr="bs01054_"/>
          <p:cNvPicPr/>
          <p:nvPr/>
        </p:nvPicPr>
        <p:blipFill>
          <a:blip r:embed="rId1"/>
          <a:stretch/>
        </p:blipFill>
        <p:spPr>
          <a:xfrm>
            <a:off x="3122640" y="4098960"/>
            <a:ext cx="2973240" cy="2504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070F-C420-4797-8A26-E2461862F53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Verbs ending in </a:t>
            </a:r>
            <a:r>
              <a:rPr b="0" i="1" lang="es-ES_tradnl" sz="4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i="1" lang="es-ES_tradnl" sz="4000" spc="-1" strike="noStrike" u="sng">
                <a:solidFill>
                  <a:srgbClr val="ffffff"/>
                </a:solidFill>
                <a:uFillTx/>
                <a:latin typeface="Comic Sans MS"/>
              </a:rPr>
              <a:t>car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, </a:t>
            </a:r>
            <a:r>
              <a:rPr b="0" i="1" lang="es-ES_tradnl" sz="4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i="1" lang="es-ES_tradnl" sz="4000" spc="-1" strike="noStrike" u="sng">
                <a:solidFill>
                  <a:srgbClr val="ffffff"/>
                </a:solidFill>
                <a:uFillTx/>
                <a:latin typeface="Comic Sans MS"/>
              </a:rPr>
              <a:t>gar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, and</a:t>
            </a:r>
            <a:br>
              <a:rPr sz="4000"/>
            </a:br>
            <a:r>
              <a:rPr b="0" i="1" lang="es-ES_tradnl" sz="4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i="1" lang="es-ES_tradnl" sz="4000" spc="-1" strike="noStrike" u="sng">
                <a:solidFill>
                  <a:srgbClr val="ffffff"/>
                </a:solidFill>
                <a:uFillTx/>
                <a:latin typeface="Comic Sans MS"/>
              </a:rPr>
              <a:t>zar</a:t>
            </a:r>
            <a:r>
              <a:rPr b="0" i="1" lang="es-ES_tradnl" sz="4000" spc="-1" strike="noStrike">
                <a:solidFill>
                  <a:srgbClr val="ebd189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 have a spelling change in the “yo” form of the </a:t>
            </a:r>
            <a:r>
              <a:rPr b="0" i="1" lang="es-ES_tradnl" sz="4000" spc="-1" strike="noStrike">
                <a:solidFill>
                  <a:srgbClr val="ebd189"/>
                </a:solidFill>
                <a:latin typeface="Comic Sans MS"/>
              </a:rPr>
              <a:t>pretérito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6019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car      tocar        practica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agar        jugar        llega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zar   empezar   comenza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170720" y="533520"/>
            <a:ext cx="58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Unos Irregulares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3" name="Picture 6" descr="pe02106_"/>
          <p:cNvPicPr/>
          <p:nvPr/>
        </p:nvPicPr>
        <p:blipFill>
          <a:blip r:embed="rId1"/>
          <a:stretch/>
        </p:blipFill>
        <p:spPr>
          <a:xfrm>
            <a:off x="6743880" y="4795920"/>
            <a:ext cx="2400120" cy="2062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amera.wav"/>
      </p:stSnd>
    </p:sndAc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F615-7CFD-4EDB-90C1-B67CC23074A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066680" y="3808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The “yo” form of the </a:t>
            </a:r>
            <a:r>
              <a:rPr b="0" i="1" lang="es-ES_tradnl" sz="4000" spc="-1" strike="noStrike">
                <a:solidFill>
                  <a:srgbClr val="ebd189"/>
                </a:solidFill>
                <a:latin typeface="Comic Sans MS"/>
              </a:rPr>
              <a:t>pretérito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 changes to conserve the </a:t>
            </a:r>
            <a:r>
              <a:rPr b="0" i="1" lang="es-ES_tradnl" sz="4000" spc="-1" strike="noStrike" u="sng">
                <a:solidFill>
                  <a:srgbClr val="ebd189"/>
                </a:solidFill>
                <a:uFillTx/>
                <a:latin typeface="Comic Sans MS"/>
              </a:rPr>
              <a:t>sound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 of the infinitive: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600200" y="3505320"/>
            <a:ext cx="2666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Comic Sans MS"/>
              </a:rPr>
              <a:t>-car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Comic Sans MS"/>
              </a:rPr>
              <a:t>-gar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Comic Sans MS"/>
              </a:rPr>
              <a:t>-zar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809880" y="3505320"/>
            <a:ext cx="3124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-qu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-gu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-c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6095880" y="3505320"/>
            <a:ext cx="1905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toc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jug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rez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69" name="Group 9"/>
          <p:cNvGrpSpPr/>
          <p:nvPr/>
        </p:nvGrpSpPr>
        <p:grpSpPr>
          <a:xfrm>
            <a:off x="6553080" y="3657600"/>
            <a:ext cx="609840" cy="351000"/>
            <a:chOff x="6553080" y="3657600"/>
            <a:chExt cx="609840" cy="351000"/>
          </a:xfrm>
        </p:grpSpPr>
        <p:sp>
          <p:nvSpPr>
            <p:cNvPr id="170" name="Line 7"/>
            <p:cNvSpPr/>
            <p:nvPr/>
          </p:nvSpPr>
          <p:spPr>
            <a:xfrm>
              <a:off x="6553080" y="365760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 flipH="1">
              <a:off x="6553080" y="365760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72" name="Group 10"/>
          <p:cNvGrpSpPr/>
          <p:nvPr/>
        </p:nvGrpSpPr>
        <p:grpSpPr>
          <a:xfrm>
            <a:off x="6553080" y="4373640"/>
            <a:ext cx="609840" cy="350640"/>
            <a:chOff x="6553080" y="4373640"/>
            <a:chExt cx="609840" cy="350640"/>
          </a:xfrm>
        </p:grpSpPr>
        <p:sp>
          <p:nvSpPr>
            <p:cNvPr id="173" name="Line 11"/>
            <p:cNvSpPr/>
            <p:nvPr/>
          </p:nvSpPr>
          <p:spPr>
            <a:xfrm>
              <a:off x="6553080" y="4373640"/>
              <a:ext cx="609840" cy="350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4" name="Line 12"/>
            <p:cNvSpPr/>
            <p:nvPr/>
          </p:nvSpPr>
          <p:spPr>
            <a:xfrm flipH="1">
              <a:off x="6553080" y="4373640"/>
              <a:ext cx="609840" cy="350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75" name="Group 13"/>
          <p:cNvGrpSpPr/>
          <p:nvPr/>
        </p:nvGrpSpPr>
        <p:grpSpPr>
          <a:xfrm>
            <a:off x="6553080" y="4983120"/>
            <a:ext cx="609840" cy="351000"/>
            <a:chOff x="6553080" y="4983120"/>
            <a:chExt cx="609840" cy="351000"/>
          </a:xfrm>
        </p:grpSpPr>
        <p:sp>
          <p:nvSpPr>
            <p:cNvPr id="176" name="Line 14"/>
            <p:cNvSpPr/>
            <p:nvPr/>
          </p:nvSpPr>
          <p:spPr>
            <a:xfrm>
              <a:off x="6553080" y="498312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 flipH="1">
              <a:off x="6553080" y="498312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p:transition spd="med">
    <p:zoom dir="in"/>
    <p:sndAc>
      <p:stSnd>
        <p:snd r:embed="rId1" name="camera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C562-1531-413A-9724-F8805296FA1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c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4114800"/>
            <a:ext cx="2133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qu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c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c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00040" y="4114800"/>
            <a:ext cx="2438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usc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usc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usc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3" name="Picture 11" descr="bd04974_"/>
          <p:cNvPicPr/>
          <p:nvPr/>
        </p:nvPicPr>
        <p:blipFill>
          <a:blip r:embed="rId1"/>
          <a:stretch/>
        </p:blipFill>
        <p:spPr>
          <a:xfrm>
            <a:off x="1295280" y="304920"/>
            <a:ext cx="1841760" cy="220968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13"/>
          <p:cNvGrpSpPr/>
          <p:nvPr/>
        </p:nvGrpSpPr>
        <p:grpSpPr>
          <a:xfrm>
            <a:off x="6408720" y="3124080"/>
            <a:ext cx="2201760" cy="3350160"/>
            <a:chOff x="6408720" y="3124080"/>
            <a:chExt cx="2201760" cy="3350160"/>
          </a:xfrm>
        </p:grpSpPr>
        <p:sp>
          <p:nvSpPr>
            <p:cNvPr id="185" name="Text Box 8"/>
            <p:cNvSpPr/>
            <p:nvPr/>
          </p:nvSpPr>
          <p:spPr>
            <a:xfrm>
              <a:off x="6773400" y="5892840"/>
              <a:ext cx="140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busc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86" name="Picture 12" descr="bd05609_"/>
            <p:cNvPicPr/>
            <p:nvPr/>
          </p:nvPicPr>
          <p:blipFill>
            <a:blip r:embed="rId2"/>
            <a:stretch/>
          </p:blipFill>
          <p:spPr>
            <a:xfrm>
              <a:off x="6408720" y="3124080"/>
              <a:ext cx="2201760" cy="2847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C26E-49D2-4484-BBA2-FD160DB42E5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g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ju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gu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jug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jug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jug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jug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jug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2" name="Picture 6" descr="bd07225_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11"/>
          <p:cNvGrpSpPr/>
          <p:nvPr/>
        </p:nvGrpSpPr>
        <p:grpSpPr>
          <a:xfrm>
            <a:off x="6324480" y="3124080"/>
            <a:ext cx="2422800" cy="3350160"/>
            <a:chOff x="6324480" y="3124080"/>
            <a:chExt cx="2422800" cy="3350160"/>
          </a:xfrm>
        </p:grpSpPr>
        <p:sp>
          <p:nvSpPr>
            <p:cNvPr id="194" name="Text Box 8"/>
            <p:cNvSpPr/>
            <p:nvPr/>
          </p:nvSpPr>
          <p:spPr>
            <a:xfrm>
              <a:off x="6977160" y="589284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jug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95" name="Picture 10" descr="bd05649_"/>
            <p:cNvPicPr/>
            <p:nvPr/>
          </p:nvPicPr>
          <p:blipFill>
            <a:blip r:embed="rId2"/>
            <a:stretch/>
          </p:blipFill>
          <p:spPr>
            <a:xfrm>
              <a:off x="6324480" y="3124080"/>
              <a:ext cx="2422800" cy="2740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3F61-2CD8-4CCD-895B-B163146871F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z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c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z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z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lmorz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lmorz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lmorz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1" name="Picture 6" descr="bd07225_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6172200" y="3962520"/>
            <a:ext cx="2755800" cy="2511720"/>
            <a:chOff x="6172200" y="3962520"/>
            <a:chExt cx="2755800" cy="2511720"/>
          </a:xfrm>
        </p:grpSpPr>
        <p:sp>
          <p:nvSpPr>
            <p:cNvPr id="203" name="Text Box 8"/>
            <p:cNvSpPr/>
            <p:nvPr/>
          </p:nvSpPr>
          <p:spPr>
            <a:xfrm>
              <a:off x="6635520" y="5892840"/>
              <a:ext cx="183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almorz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4" name="Picture 10" descr="fd00723_"/>
            <p:cNvPicPr/>
            <p:nvPr/>
          </p:nvPicPr>
          <p:blipFill>
            <a:blip r:embed="rId2"/>
            <a:stretch/>
          </p:blipFill>
          <p:spPr>
            <a:xfrm>
              <a:off x="6172200" y="3962520"/>
              <a:ext cx="275580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5264-9DE8-4649-9FF1-7E6F4B1EC06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Dar vs. Ver </a:t>
            </a:r>
            <a:br>
              <a:rPr sz="4400"/>
            </a:br>
            <a:r>
              <a:rPr b="0" lang="en-US" sz="4000" spc="-1" strike="noStrike">
                <a:solidFill>
                  <a:srgbClr val="ebd189"/>
                </a:solidFill>
                <a:latin typeface="Comic Sans MS"/>
              </a:rPr>
              <a:t>the irregular “fraternal twins”</a:t>
            </a:r>
            <a:endParaRPr b="0" lang="en-US" sz="40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Comic Sans MS"/>
              </a:rPr>
              <a:t>Da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 – to giv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i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io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i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Comic Sans MS"/>
              </a:rPr>
              <a:t>Ve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 – to se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i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io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i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657600" y="6095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*no accents*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3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3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3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3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3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3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3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3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0B98-C1F3-491C-A395-FD2AC73CC09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Ser vs. Ir</a:t>
            </a:r>
            <a:br>
              <a:rPr sz="4400"/>
            </a:br>
            <a:r>
              <a:rPr b="0" lang="en-US" sz="4000" spc="-1" strike="noStrike">
                <a:solidFill>
                  <a:srgbClr val="ebd189"/>
                </a:solidFill>
                <a:latin typeface="Comic Sans MS"/>
              </a:rPr>
              <a:t>the irregular “identical twins”</a:t>
            </a:r>
            <a:endParaRPr b="0" lang="en-US" sz="40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Comic Sans MS"/>
              </a:rPr>
              <a:t>Se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 – to b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i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Comic Sans MS"/>
              </a:rPr>
              <a:t>I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 to go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i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5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0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4000"/>
                            </p:stCondLst>
                            <p:childTnLst>
                              <p:par>
                                <p:cTn id="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49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200"/>
                            </p:stCondLst>
                            <p:childTnLst>
                              <p:par>
                                <p:cTn id="7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500"/>
                            </p:stCondLst>
                            <p:childTnLst>
                              <p:par>
                                <p:cTn id="7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800"/>
                            </p:stCondLst>
                            <p:childTnLst>
                              <p:par>
                                <p:cTn id="7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1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6400"/>
                            </p:stCondLst>
                            <p:childTnLst>
                              <p:par>
                                <p:cTn id="7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3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3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E142-424F-46B3-B36D-2CDBE561F46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720" y="4191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I went to the store.</a:t>
            </a:r>
            <a:endParaRPr b="0" lang="en-US" sz="36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I bought a shirt.</a:t>
            </a:r>
            <a:endParaRPr b="0" lang="en-US" sz="36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I paid in cash.</a:t>
            </a:r>
            <a:endParaRPr b="0" lang="en-US" sz="36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562040" y="22860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El </a:t>
            </a:r>
            <a:r>
              <a:rPr b="0" lang="en-US" sz="5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585440" y="1536840"/>
            <a:ext cx="645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is a </a:t>
            </a:r>
            <a:r>
              <a:rPr b="0" lang="en-US" sz="3600" spc="-1" strike="noStrike" u="sng">
                <a:solidFill>
                  <a:srgbClr val="ebd189"/>
                </a:solidFill>
                <a:uFillTx/>
                <a:latin typeface="Comic Sans MS"/>
              </a:rPr>
              <a:t>past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tense (“-ed”)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talks about </a:t>
            </a:r>
            <a:r>
              <a:rPr b="0" lang="en-US" sz="3600" spc="-1" strike="noStrike" u="sng">
                <a:solidFill>
                  <a:srgbClr val="ebd189"/>
                </a:solidFill>
                <a:uFillTx/>
                <a:latin typeface="Comic Sans MS"/>
              </a:rPr>
              <a:t>what happened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is a </a:t>
            </a:r>
            <a:r>
              <a:rPr b="0" lang="en-US" sz="3600" spc="-1" strike="noStrike" u="sng">
                <a:solidFill>
                  <a:srgbClr val="ebd189"/>
                </a:solidFill>
                <a:uFillTx/>
                <a:latin typeface="Comic Sans MS"/>
              </a:rPr>
              <a:t>completed action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3B6A-E0CD-41BC-AF2C-2EB15EDA970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The </a:t>
            </a:r>
            <a:r>
              <a:rPr b="0" i="1" lang="en-US" sz="4400" spc="-1" strike="noStrike">
                <a:solidFill>
                  <a:srgbClr val="ebd189"/>
                </a:solidFill>
                <a:latin typeface="Comic Sans MS"/>
              </a:rPr>
              <a:t>stem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for regular verbs in the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is the infinitive stem.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a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bla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bl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e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ebe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eb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i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ali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al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3685-DA3B-40E5-A4F1-C2BF1347D1C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endings for </a:t>
            </a:r>
            <a:r>
              <a:rPr b="0" i="1" lang="en-US" sz="4400" spc="-1" strike="noStrike">
                <a:solidFill>
                  <a:srgbClr val="ebd189"/>
                </a:solidFill>
                <a:latin typeface="Comic Sans MS"/>
              </a:rPr>
              <a:t>-ar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verbs are: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3733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é     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aste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ó     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30480" y="3733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amo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astei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aron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133720" y="3429000"/>
            <a:ext cx="5105160" cy="29718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5E2C-906F-47BE-8300-52E5252F211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endings for </a:t>
            </a:r>
            <a:r>
              <a:rPr b="0" i="1" lang="en-US" sz="4400" spc="-1" strike="noStrike">
                <a:solidFill>
                  <a:srgbClr val="ebd189"/>
                </a:solidFill>
                <a:latin typeface="Comic Sans MS"/>
              </a:rPr>
              <a:t>–er / -ir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verbs are: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733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í     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iste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ió     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30480" y="3733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imo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istei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ieron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2133720" y="3429000"/>
            <a:ext cx="5105160" cy="29718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37C3-422A-470C-AFDE-EE488BA4BF5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066680" y="304920"/>
            <a:ext cx="3657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Comic Sans MS"/>
              </a:rPr>
              <a:t>REMEMBER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0" name="Picture 3" descr="bs00950_"/>
          <p:cNvPicPr/>
          <p:nvPr/>
        </p:nvPicPr>
        <p:blipFill>
          <a:blip r:embed="rId1"/>
          <a:stretch/>
        </p:blipFill>
        <p:spPr>
          <a:xfrm>
            <a:off x="6781680" y="228600"/>
            <a:ext cx="2163960" cy="2268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1905120" y="2698920"/>
            <a:ext cx="5715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accents on the “yo” form  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and the “él / ella / Ud.”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form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-ar / -ir “nosotros” form is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the same in present and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ebd189"/>
                </a:solidFill>
                <a:latin typeface="Comic Sans MS"/>
              </a:rPr>
              <a:t>pretérito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2" name="camera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6AA2-741B-46BF-9E24-45259536AF4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1599840"/>
            <a:ext cx="31240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ar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00240" y="4114800"/>
            <a:ext cx="1935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om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om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om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963840" y="4114800"/>
            <a:ext cx="2179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36" name="Picture 5" descr="bd05012_"/>
          <p:cNvPicPr/>
          <p:nvPr/>
        </p:nvPicPr>
        <p:blipFill>
          <a:blip r:embed="rId1"/>
          <a:stretch/>
        </p:blipFill>
        <p:spPr>
          <a:xfrm>
            <a:off x="6934320" y="120600"/>
            <a:ext cx="1779480" cy="15559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1447920" y="2971800"/>
            <a:ext cx="1974600" cy="3578760"/>
            <a:chOff x="1447920" y="2971800"/>
            <a:chExt cx="1974600" cy="3578760"/>
          </a:xfrm>
        </p:grpSpPr>
        <p:pic>
          <p:nvPicPr>
            <p:cNvPr id="139" name="Picture 7" descr="bd05307_"/>
            <p:cNvPicPr/>
            <p:nvPr/>
          </p:nvPicPr>
          <p:blipFill>
            <a:blip r:embed="rId2"/>
            <a:stretch/>
          </p:blipFill>
          <p:spPr>
            <a:xfrm>
              <a:off x="1447920" y="2971800"/>
              <a:ext cx="19746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1793160" y="5969160"/>
              <a:ext cx="129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tom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A933-8AC7-464C-BD27-EFE71498313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441972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er / -i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4114800"/>
            <a:ext cx="213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comí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com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comi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933960" y="4114800"/>
            <a:ext cx="2057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i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6" name="Picture 10" descr="bd05022_"/>
          <p:cNvPicPr/>
          <p:nvPr/>
        </p:nvPicPr>
        <p:blipFill>
          <a:blip r:embed="rId1"/>
          <a:stretch/>
        </p:blipFill>
        <p:spPr>
          <a:xfrm>
            <a:off x="7010280" y="228600"/>
            <a:ext cx="1874880" cy="17478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12"/>
          <p:cNvGrpSpPr/>
          <p:nvPr/>
        </p:nvGrpSpPr>
        <p:grpSpPr>
          <a:xfrm>
            <a:off x="1219320" y="3200400"/>
            <a:ext cx="2550960" cy="3350160"/>
            <a:chOff x="1219320" y="3200400"/>
            <a:chExt cx="2550960" cy="3350160"/>
          </a:xfrm>
        </p:grpSpPr>
        <p:sp>
          <p:nvSpPr>
            <p:cNvPr id="148" name="Text Box 8"/>
            <p:cNvSpPr/>
            <p:nvPr/>
          </p:nvSpPr>
          <p:spPr>
            <a:xfrm>
              <a:off x="1781640" y="596916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come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49" name="Picture 11" descr="fd00784_"/>
            <p:cNvPicPr/>
            <p:nvPr/>
          </p:nvPicPr>
          <p:blipFill>
            <a:blip r:embed="rId2"/>
            <a:stretch/>
          </p:blipFill>
          <p:spPr>
            <a:xfrm>
              <a:off x="1219320" y="3200400"/>
              <a:ext cx="2550960" cy="2790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DB54-FD9C-4B8D-91E0-5CD36516E32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441972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er / -i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4114800"/>
            <a:ext cx="213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brí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br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bri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933960" y="4114800"/>
            <a:ext cx="2057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i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5" name="Picture 6" descr="bd05022_"/>
          <p:cNvPicPr/>
          <p:nvPr/>
        </p:nvPicPr>
        <p:blipFill>
          <a:blip r:embed="rId1"/>
          <a:stretch/>
        </p:blipFill>
        <p:spPr>
          <a:xfrm>
            <a:off x="7010280" y="228600"/>
            <a:ext cx="1874880" cy="174780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1447920" y="3124080"/>
            <a:ext cx="2212920" cy="3426480"/>
            <a:chOff x="1447920" y="3124080"/>
            <a:chExt cx="2212920" cy="3426480"/>
          </a:xfrm>
        </p:grpSpPr>
        <p:sp>
          <p:nvSpPr>
            <p:cNvPr id="157" name="Text Box 8"/>
            <p:cNvSpPr/>
            <p:nvPr/>
          </p:nvSpPr>
          <p:spPr>
            <a:xfrm>
              <a:off x="1900800" y="5969160"/>
              <a:ext cx="10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abri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58" name="Picture 10" descr="hh01298_"/>
            <p:cNvPicPr/>
            <p:nvPr/>
          </p:nvPicPr>
          <p:blipFill>
            <a:blip r:embed="rId2"/>
            <a:stretch/>
          </p:blipFill>
          <p:spPr>
            <a:xfrm>
              <a:off x="1447920" y="3124080"/>
              <a:ext cx="2212920" cy="2876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7T16:42:38Z</dcterms:created>
  <dc:creator>olseng</dc:creator>
  <dc:description/>
  <dc:language>en-US</dc:language>
  <cp:lastModifiedBy>jbarber</cp:lastModifiedBy>
  <dcterms:modified xsi:type="dcterms:W3CDTF">2010-09-10T12:48:17Z</dcterms:modified>
  <cp:revision>66</cp:revision>
  <dc:subject/>
  <dc:title>The Preterit</dc:title>
</cp:coreProperties>
</file>